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39A6-2D70-42D7-8DF8-EA6A091C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3980-E768-4B64-BDE0-14C6C053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7EDA-7566-425E-B68E-E9C37A2F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920A-24B6-4B8D-AD97-21C5EE7F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F013-4697-492B-A43F-0B2D562F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7ECA-D457-43B2-A5A0-512895BC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DD3F-2963-4733-B7B3-591580B0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47FF-7117-4EF0-99EA-D9D87AAE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9184-DBFB-48C6-AC26-80AA8843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B63D-E85C-4E3C-8188-3261AF07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B949-5D1A-40EB-8936-A7835ACB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01C8-8495-49CB-A6CA-F5091148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0488-2148-4CC6-A38A-B595C708536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ISATIONS ET MATERIE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YCEE JEAN ZA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499440" cy="4872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rot="16200000">
            <a:off x="-1671480" y="362412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 de traction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ISATIONS ET MATERIE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YCEE JEAN ZA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-1128960" y="4165560"/>
            <a:ext cx="39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ugosimétre électro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5026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ISATIONS ET MATERIE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YCEE JEAN ZA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-1935000" y="3361680"/>
            <a:ext cx="55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 à mesurer tridimens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5023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ISATIONS ET MATERIE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YCEE JEAN ZA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-1341360" y="3954600"/>
            <a:ext cx="43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 de trempe et de reve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5023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ISATIONS ET MATERIE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YCEE JEAN ZA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-1391040" y="390528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hauffage par induction SK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5696" t="22439" r="10141" b="13585"/>
          <a:stretch/>
        </p:blipFill>
        <p:spPr>
          <a:xfrm>
            <a:off x="1187280" y="2060640"/>
            <a:ext cx="74170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9:29:01Z</dcterms:created>
  <dc:creator>Michel 3</dc:creator>
  <dc:description/>
  <dc:language>en-US</dc:language>
  <cp:lastModifiedBy>Michel 3</cp:lastModifiedBy>
  <dcterms:modified xsi:type="dcterms:W3CDTF">2007-05-12T16:11:34Z</dcterms:modified>
  <cp:revision>6</cp:revision>
  <dc:subject/>
  <dc:title>LOCALISATIONS ET MATERIELS LYCEE JEAN ZAY THIERS</dc:title>
</cp:coreProperties>
</file>